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F5D0-F383-4447-A285-40F8AF4C0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D648-B283-4F68-A686-7112A499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540F04-5510-439A-BA09-021CD8CB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6707A0-FFD3-4F9D-B311-927C2924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35C40F-B35B-4FBE-A5A3-BE07A898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FA91CD-2BD8-41D0-B137-E7D591C4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DC59CD-7BD7-4881-99E4-1C59CC60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9B940F-A2E8-4315-BDD6-6BEBE210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DF5A8C-1490-480D-9F1F-82A9C092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85A4F5-C223-485B-97BB-58BD78ED5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062EB7-EB8D-4FC2-98FA-8659FA99D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F23283-AB44-49C1-A991-385E7DE0D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0278-837C-432B-9579-D4233F44E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4A43B-7C74-462E-A446-360A5635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0D06BA-4325-40D7-9FBA-D531400C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DFE48-780F-41B9-92F0-2626181C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B1E35-FA3A-4BBC-B274-F619B137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CE68D4-AEAE-45C1-850E-93969267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ED06D4-B444-4F8F-BA96-64C0C37F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E62E00-4771-4D9E-AFD9-3AF7B31D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F4947-80A1-4C7F-A612-116137BB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6EF5E1-1671-4162-992F-2BA30DE1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FEC256-760E-4A66-A2F5-F31E156D4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42C0-C992-4CD6-813A-8AA574689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F4EB4-DBA4-4F04-9E73-559E9D643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CA980-1F6B-45D5-90EB-1A0D741B6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7BE03-7763-477C-B2D3-E47D4F04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790C8-C066-4917-9E64-FACAD22E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B7600-C956-456F-A376-488A8881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DD9C7-68BE-4DF1-8FD9-640303B1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C723D-5216-49F9-8D44-12869E2C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7C6C3-F741-487E-AD73-8E7F3529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9E37C-B18C-4097-BA0D-B3F07CED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624FA-6EDA-4003-82CD-DDD51B3E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4BE0-D1B8-4324-80CE-F841DAC71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78E3C-E515-4117-A7F5-CEC5DFED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31A9A-0C02-498D-BE41-0A07ECF6E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944EE-ED40-464C-A7BF-BDEAA4D43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64EF34-5397-4921-AFB5-2AB05BCF2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30E5E1-5122-4D53-875C-CDB9B9DE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FECC73-3F96-4EC1-8B92-18633006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84C2B-9517-4DF9-B19C-C74787A0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3FC349-76CD-4E87-86FA-D9DED168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D0E142-86F9-4F88-AED2-A0263B67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B66ED0-673A-46F9-9C5B-D4119711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4734-238D-4C8D-8BDA-DE02CE24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EB1F14-DB25-4BBD-BC18-A893F8E0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F59616-B9FB-4691-8079-A68354B3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E829AF-668F-4615-973A-5F754E17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934647-506B-4414-B4B7-C3A4A2ECF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38E0DE-D770-4E49-9BA3-3CC919227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03F0-B5D6-4D2F-A938-5DD458ED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7641-445B-4880-AE6C-241122C8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4827-80BC-4E58-ACED-21B118E3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3116-6082-4528-844A-D6B326D0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5B3B-B808-416A-917F-E4064BB0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37F0-8701-44F7-A5B1-3E2FF858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274F-46B4-4A1F-8B10-52ABCDF7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C69C-8BF6-4B17-8482-BECF0337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2BF8-3F1E-43F3-9C53-CFD5B52B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8D4A-3C35-43E1-A5C1-8229C0E42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9C54-EC97-4E82-8B0F-369694647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1B195-E3A9-4A90-B3EB-C23616B97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A5B2E-A23D-4646-83E0-1A72E540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12074-AC50-4BB5-9EA2-3D4666E9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A0F1F-49C9-43F9-BDC9-A0805931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21FAA-CDB6-4C4D-B89A-461D947D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D444-49A9-4891-BC61-7F1203D4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43B65-D519-4F8F-8F28-20B1B35F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1E6F6-D4F5-4B3B-99BE-B075AC38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C8631-3777-4888-950F-74E2BF47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FDC09-76D1-4F5D-B8E5-FD903E79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F8E20-2F17-4C22-B419-8DCE4BFF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3A814-8BAC-4C26-80A4-91A1E28A1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690C0-7AC4-41F3-8E7D-B3AD25B83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10FB7-746F-441C-AB5B-84753929D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DD695-DAB9-44F9-90B7-49EAC200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E8B76-FB9A-4630-A480-C99022AA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3163-EBED-40B7-BE9E-21056291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60B2B-3BA1-4311-8969-A368AF48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FF3CF-15AD-4C5E-94D8-7CC3F6C0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4F21E-D056-448C-A875-139F167E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4CC9E-FBCC-46BC-8199-D964BDA5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4349C-5E98-451B-A6A5-A4E3DCE9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D3764-65C7-48AD-AF7A-CB08CBEA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80E74-A3D1-4B06-ADCD-C4F467B7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288BD-D45E-4D6D-8F79-AC75E6518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B2D4A-8D62-4DF0-B593-4BB2B373E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1218B-7D0C-47DA-A3CF-E9C58D3E8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193C-2CDC-4F41-93B3-9FC927D1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500AC-5D75-44E0-8433-CBB546DB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F531B-C9DC-4206-ABF8-7F201891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27F57-8808-4020-8406-B748978C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D9939-3A27-4474-8FE7-49EDDF3D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079B2-BEF0-4CF2-8177-944FF103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943F1-5713-42B6-9C2D-D207045D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040A7-6053-4141-932C-026D95EE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76F01-4221-4C0E-87ED-B6BCEBA9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82CD3-14F0-494C-B093-D23400A5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4C7A8-C833-4A37-800F-A31C2452D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5E9C-0B59-42FA-B335-8D1F900A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60E85-A091-4D92-B9A6-558AA4356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C201F-01F1-4D64-9E1B-B29DD5B2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8D101-9FE2-4FDC-88A1-E9344A0B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441A5-F83C-42C5-930E-1B544DE1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9DDE1-13B5-4900-A898-1D5F2782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6FF5C-89AA-453E-82B8-32266B61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A7716-90FA-44D0-AFCC-3413027B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60532-1626-4883-828A-5262DDB7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3CE13-A2D3-48FC-BDA1-88A47BFD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48A4D-E107-48C9-8812-9444DD60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988B-AAF9-4167-9BB6-3B51808B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F6CB2-7E68-45B3-94E8-C83EA147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8B61A-885E-4E3D-A923-FB59C9FC8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BF5B1-D188-4E29-A620-93BAE862F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BB4A7-A420-4D48-B4E9-323C4E2ED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03DED-4CBC-4C14-90A7-21A09219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6A045-6A0F-40DB-9F32-4F2C3D5E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A920B-CD22-474A-8986-AD75C703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17D2C-5A56-4EA6-A4F5-1A322B01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FD0A7-5C3C-4762-9F21-FD8CD2FD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8C79A-FB00-4C97-B6E6-1E207F6F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8753-98CF-4338-BE27-C8242041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41701-D9F6-421F-9964-47123394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11122-BCD2-4252-96E9-03DAA638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D7EE8-A0BC-4D26-8002-0A705ECD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DFFEB-DE6F-40E1-8772-0273D89E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E7F58-CB34-413D-ADC7-FB3D65C52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A68E2-9092-4D87-ABEB-B6F07398B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56679-480F-4B2E-8591-044CD7AB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FD144-4151-4AE0-92E3-4EFE8D94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F5077-FCB8-46A8-B52F-DB6F07EF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84FE8-EFF1-48B7-B7D4-2A0AE9B9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9F4D-2C3F-48C5-A498-1944634B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22E15-CAC6-4617-BC31-C3B30E69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54294-5319-4D1E-9E34-FDDCC0F1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D320B-1362-4003-ACBF-632FD30E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FC437-294F-4F32-8608-AB361798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BB1F2-2F96-4500-968B-FA6F6D68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95B6D-A919-4D61-9FDB-EC3FB4FEE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E9B63-D5AC-46CB-8726-600A15471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CB3AC6-6662-46C3-AC09-5267E1E56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39C6EA-5A50-45D3-860B-35DBD5CB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A4EB95-2A9F-41EE-8D71-6D8089B4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BF55-8CDA-49B6-AF54-84303DE9A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0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C0DE-E052-4CE8-A869-97C7E6BEF1E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57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57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7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57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8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8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8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58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59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59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60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60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60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61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61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61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62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62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3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3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3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64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64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5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65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65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65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66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66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66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66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67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67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67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68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8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7C7C-CE07-43CB-AD5E-C5D999B39D8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74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74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75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75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75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75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75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76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76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76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76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77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77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77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78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78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78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79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79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79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79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80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80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80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81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81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81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2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82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82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82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83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83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83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84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84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84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84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85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5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85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85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6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86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39CE-C7C5-404D-AB8F-E88F8D832EF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8623-2623-474C-9E8C-CF810CA2B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98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A1DD-1B70-4051-A8D0-25988A39BC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43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1FBD-BE20-4AC4-A40F-1C15D7AD7B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87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655F-1CD4-47F3-AAAD-28183CEBA0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36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3490-7D37-48BD-A1C9-312301FCCF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84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21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3BD0-529A-4A11-9ECC-1C51FEFDFC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6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0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3B7A-0112-4FBE-B11D-94B5718C65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6A50-DD9E-404C-9201-4644FC75B7B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nap ITC"/>
              </a:rPr>
              <a:t>Russia’s Econom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nap ITC"/>
              </a:rPr>
              <a:t>By: Mario Ragusa, Alex Huynh, and Fiona Schmid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Ravie"/>
              </a:rPr>
              <a:t>Problems/Solutions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vie"/>
              </a:rPr>
              <a:t>Problem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Factories focused on heavy 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Had older indus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Ravie"/>
              </a:rPr>
              <a:t>Solu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factories shifted to light 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High-technology industries have appea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596960" y="301932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Tempus Sans ITC"/>
              </a:rPr>
              <a:t>Important parts of Russia's econom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iller"/>
              </a:rPr>
              <a:t>Gold and fish are both found in South Eastern Russ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iller"/>
              </a:rPr>
              <a:t>Coal is a major resource and is found in the cold parts of Russ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iller"/>
              </a:rPr>
              <a:t>Russia is one of the leading oil produce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7" name="" descr=""/>
          <p:cNvPicPr/>
          <p:nvPr/>
        </p:nvPicPr>
        <p:blipFill>
          <a:blip r:embed="rId1"/>
          <a:stretch/>
        </p:blipFill>
        <p:spPr>
          <a:xfrm>
            <a:off x="491796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1904760" cy="2133720"/>
          </a:xfrm>
          <a:prstGeom prst="rect">
            <a:avLst/>
          </a:prstGeom>
          <a:ln w="0">
            <a:noFill/>
          </a:ln>
        </p:spPr>
      </p:pic>
      <p:pic>
        <p:nvPicPr>
          <p:cNvPr id="929" name="" descr=""/>
          <p:cNvPicPr/>
          <p:nvPr/>
        </p:nvPicPr>
        <p:blipFill>
          <a:blip r:embed="rId3"/>
          <a:stretch/>
        </p:blipFill>
        <p:spPr>
          <a:xfrm>
            <a:off x="4648320" y="3962520"/>
            <a:ext cx="1904760" cy="2149200"/>
          </a:xfrm>
          <a:prstGeom prst="rect">
            <a:avLst/>
          </a:prstGeom>
          <a:ln w="0">
            <a:noFill/>
          </a:ln>
        </p:spPr>
      </p:pic>
      <p:pic>
        <p:nvPicPr>
          <p:cNvPr id="930" name="" descr=""/>
          <p:cNvPicPr/>
          <p:nvPr/>
        </p:nvPicPr>
        <p:blipFill>
          <a:blip r:embed="rId4"/>
          <a:stretch/>
        </p:blipFill>
        <p:spPr>
          <a:xfrm>
            <a:off x="6553080" y="182880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931" name="" descr=""/>
          <p:cNvPicPr/>
          <p:nvPr/>
        </p:nvPicPr>
        <p:blipFill>
          <a:blip r:embed="rId5"/>
          <a:stretch/>
        </p:blipFill>
        <p:spPr>
          <a:xfrm>
            <a:off x="6553080" y="3962520"/>
            <a:ext cx="22860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98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98" fill="hold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tencil"/>
              </a:rPr>
              <a:t>Russia’s Growt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9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Stencil"/>
              </a:rPr>
              <a:t>Russia has increased since the economic crisis of the fall of the Soviet Un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Stencil"/>
              </a:rPr>
              <a:t>They changed from Yeltsin years to Putin years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4687920" y="1828800"/>
            <a:ext cx="399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5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4038480" cy="4191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Important Fac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stellar"/>
              </a:rPr>
              <a:t>Getting to the materials In Russia is difficult because Serbia is mostly undeveloped because of its climat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stellar"/>
              </a:rPr>
              <a:t>Russia exports petroleum, natural gas, wood and metal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REDI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igned by Alex, Mario and Fi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ed by Alex, Mario and Fi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earch by Alex, Mario and Fi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5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5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5000" fill="hold"/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0" fill="hold"/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5000" fill="hold"/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5000" fill="hold"/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5000" fill="hold"/>
                                        <p:tgtEl>
                                          <p:spTgt spid="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5000" fill="hold"/>
                                        <p:tgtEl>
                                          <p:spTgt spid="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09:53:25Z</dcterms:created>
  <dc:creator> </dc:creator>
  <dc:description/>
  <dc:language>en-US</dc:language>
  <cp:lastModifiedBy> </cp:lastModifiedBy>
  <dcterms:modified xsi:type="dcterms:W3CDTF">2010-12-15T18:43:06Z</dcterms:modified>
  <cp:revision>6</cp:revision>
  <dc:subject/>
  <dc:title>Russia’s Economy</dc:title>
</cp:coreProperties>
</file>